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42D-EA73-455E-8914-47F015A5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8E8-5495-4CA4-9602-03F06659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596-32CF-4889-937F-4F4DCC9D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85B-7FFC-4E2D-BBE0-044F96DF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B7D-ACED-4ECA-A701-218E67FA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B43-7238-46FE-83C0-552C168B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8DD-252A-4724-BC3E-A3330AA1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32C-3BE6-431D-AF2B-B4822A48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322-7220-47CE-8828-0C09EF03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F89-AA7A-4BCA-801A-7367216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604-76FD-480D-B10F-D610AA9E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601-D540-4BE3-AB76-F70C0E75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A2558-CCC5-49CC-8338-571A7E1B8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459F0-BFEE-44B8-AECD-A607D5898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the ESIP Discovery 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 Lynnes,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44600" y="0"/>
            <a:ext cx="833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39560" y="0"/>
            <a:ext cx="833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Discovery Gov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weight process based on Discovery Change Proposals (DC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 comm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ed by v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t Resource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Who you gonna cal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IP Federated Search:  Chris Lynnes,Hook Hua,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Construction:  Hook Hua, Chris Mattman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casting:  Brian Wilson,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-level Datacasting:  Andy Bingham,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on-Level Datacasting: Ruth Du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Discovery Cluster Work 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s of finding data and services matching users’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echnologies with similar 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:  OpenSearch (opensearch.or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ic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Federated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ted:  each provider responds to search requests for their hol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on OpenSearch (www.opensearch.or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llection of simple formats for the sharing of search resul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OpenSearch Description Document (XM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es syntax and semantics of REST-style 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IP Conventions for Federated 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Atom format (RSS under consider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ion of draft geospatial and time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for recursive searching with Open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2-step search:  dataset, then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ntifiers for data links, metadata link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943600" y="2065320"/>
            <a:ext cx="1676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set Direc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5800" y="320832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867280" y="46562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 Search Prov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AutoShape 7"/>
          <p:cNvCxnSpPr>
            <a:stCxn id="50" idx="0"/>
            <a:endCxn id="49" idx="1"/>
          </p:cNvCxnSpPr>
          <p:nvPr/>
        </p:nvCxnSpPr>
        <p:spPr>
          <a:xfrm flipH="1" flipV="1" rot="5400000">
            <a:off x="3196800" y="462240"/>
            <a:ext cx="729360" cy="476316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3" name="AutoShape 8"/>
          <p:cNvCxnSpPr>
            <a:stCxn id="49" idx="1"/>
            <a:endCxn id="50" idx="3"/>
          </p:cNvCxnSpPr>
          <p:nvPr/>
        </p:nvCxnSpPr>
        <p:spPr>
          <a:xfrm flipV="1" rot="10800000">
            <a:off x="1675800" y="2478600"/>
            <a:ext cx="4267800" cy="959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4" name="AutoShape 9"/>
          <p:cNvSpPr/>
          <p:nvPr/>
        </p:nvSpPr>
        <p:spPr>
          <a:xfrm>
            <a:off x="3200400" y="2979720"/>
            <a:ext cx="1676520" cy="1254960"/>
          </a:xfrm>
          <a:prstGeom prst="flowChartDocumen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penSearch Description Doc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752480" y="2141640"/>
            <a:ext cx="1447920" cy="703800"/>
          </a:xfrm>
          <a:prstGeom prst="flowChartProcess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penSearch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AutoShape 11"/>
          <p:cNvCxnSpPr>
            <a:stCxn id="54" idx="3"/>
            <a:endCxn id="51" idx="0"/>
          </p:cNvCxnSpPr>
          <p:nvPr/>
        </p:nvCxnSpPr>
        <p:spPr>
          <a:xfrm>
            <a:off x="4876560" y="3610080"/>
            <a:ext cx="2057760" cy="104688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AutoShape 12"/>
          <p:cNvCxnSpPr>
            <a:stCxn id="50" idx="2"/>
            <a:endCxn id="51" idx="1"/>
          </p:cNvCxnSpPr>
          <p:nvPr/>
        </p:nvCxnSpPr>
        <p:spPr>
          <a:xfrm flipH="1" rot="16200000">
            <a:off x="2822400" y="2026440"/>
            <a:ext cx="1402560" cy="4686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8" name="AutoShape 13"/>
          <p:cNvSpPr/>
          <p:nvPr/>
        </p:nvSpPr>
        <p:spPr>
          <a:xfrm>
            <a:off x="2133720" y="4275000"/>
            <a:ext cx="1447560" cy="703800"/>
          </a:xfrm>
          <a:prstGeom prst="flowChartProcess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penSearch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Step Open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d Service 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ting is the dissemination of news through subscription-based syndication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Atom, RSS, or any other syndication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ies contain enough information for subscribers to access the service o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t feeds can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of available data coll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of files available for down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of services (OPeNDAP, OGC, WM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04640" y="542880"/>
            <a:ext cx="3754440" cy="469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022640" y="3230640"/>
            <a:ext cx="4867200" cy="3548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403880" y="552600"/>
            <a:ext cx="474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cribe to RSS, GeoRSS and DatacastingRSS f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ter feeds for a specific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feed correlation to create a mashup of data and information related to the sam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-download of releva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0" y="5489640"/>
            <a:ext cx="34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ry of GeoRSS and DatacastingRSS fee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3498840" y="-13500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casting at JP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from NSIDC’s 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41360" y="441360"/>
            <a:ext cx="8331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633760" y="-13500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casting at NSID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8:35:32Z</dcterms:created>
  <dc:creator>Christopher Lynnes</dc:creator>
  <dc:description/>
  <dc:language>en-US</dc:language>
  <cp:lastModifiedBy>Christopher Lynnes</cp:lastModifiedBy>
  <dcterms:modified xsi:type="dcterms:W3CDTF">2011-07-25T18:58:28Z</dcterms:modified>
  <cp:revision>8</cp:revision>
  <dc:subject/>
  <dc:title>Introduction to the ESIP Discovery Cluster</dc:title>
</cp:coreProperties>
</file>